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14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CCB-5C47-40B5-8A8B-7FE14BF5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CCF-13DE-46DF-939B-BC5A094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3761B-84A6-4D5C-9D38-225D0AB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02F73-A256-4E8B-AD06-6A88E5A0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858F1-B9B7-4E29-9770-F770A799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A01AA-FE74-4DF0-BE24-1F5C72C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099B4-560A-421E-AF57-3A9A270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423B5-CC1D-4BFB-B3F4-8DCC461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5EF17-92AD-4B79-861E-32D8A3E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DBEA7-0203-4638-922F-380A456B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C7056-8C9F-4307-AA7C-BA8FF915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0AB50-3DC4-465A-A075-E93C0F32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F43-DD75-4EEB-B674-CFB049E8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ADA43-B96F-49FB-B5E7-4F975778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D508C-E655-4CF6-AB5C-EC6BB987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A184F-5712-43C6-9E34-556C7F2C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BFCB5-28EF-47AD-97F3-16C659E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3CAFC-CCCF-4ADD-9BF6-A9CACC4F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8CAE5-C77A-4E6E-8135-062E081B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DA513-C9FD-41A5-8EC1-0AA60CC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42784-1B15-41AF-8C01-A07DF627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2551B-08B3-4DB1-892E-3A98BBD7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70861-12FA-4F8F-A1D2-372B6021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B29-C0D2-4F41-BCA2-4378CBA6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7FED7-1DC4-4EA6-81B3-937BE4B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32914-7513-4F52-AE27-BC1A3092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2180B-1BCF-47C3-A705-9ACA7C53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D4845-73A3-4E6D-9905-347BD3F2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C475-843A-454E-8FCC-B36075C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963B0-727F-4D69-AFAF-4B5A19A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E513-72C5-4430-B5D8-CD83060B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ACF3-92A7-4CA2-BD64-9CB9CA8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AC2E0-6B68-4206-9047-3AC12D8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E01AF-BBF5-4935-938D-63DAE6F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975F-B7FB-40F4-878A-15A8BF44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D6E2D-3859-410D-B787-B018CEA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3FC16-C63B-4773-A52F-DCCE903E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6EB8-FCC9-4CD2-8E74-8D34E9BC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960FA-7C4D-408C-ACAE-C5142AB6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FF6BA-35A1-449E-93EA-21F36BBC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FD9EE-7F59-4812-8955-99610FFC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D61CB-7006-45EC-B50D-B04105F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56022-20AD-44C0-82F9-1F253CB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7C34B-FBC4-4ED2-81D8-FA00B712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75562-C86F-4821-A5FC-E8DB87D6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D60-CB4F-4B14-88E9-300003D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2394F-4623-43C8-BEA3-AE2637E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7CC1B-02B9-458F-AC26-9024845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FAC7D-8440-4533-BBEB-47FFD769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526EC-97FD-40DE-87F0-89C9B05E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44F52-D3B4-456B-B9D3-BA913117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D5A-0B2D-474C-ACDF-F7962069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F0CC-3CB8-44AA-A673-A622A45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FBD-B84A-4EC4-B211-45EF433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9CD-F4FC-42A6-BA95-BB3DB576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CF3C-0D22-4F16-97C5-7524AD7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8BA-4A23-4752-8097-A57EF47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4FAE-9FD3-4E99-A99B-8B0484E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1EB5-BAA7-4186-A9E3-7CA2CD68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577C-94FF-4EF1-9CC8-B41152E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836F-33A1-4965-80AD-06AE89F4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494-9EF3-4234-AAA0-A34BC415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1D74-A693-4022-8A9E-D3728201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6B5F-BC09-4515-9D88-01D39DEB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1A42-9FCE-498F-B044-EAF394B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D38D-4564-4B38-B3BE-357D543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5CED-C4E3-46FD-96D0-6C7A663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687-BA64-4582-8A0E-4517E73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2319-A7F1-4B80-AD49-82813B3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62B2-EFB7-4CE4-A536-F76977E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5019-0407-44A5-B9D2-07AA258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002E-058F-4143-AE2A-EE51BC3A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F30C-035D-44D6-A0F2-3A1B7860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2EC8-A1D1-4E75-9B39-45A13C48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6E0C-6CD6-4EAC-9983-4667ED3A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24BD-03F8-4762-9B29-1D0F1638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850B-7406-4E79-9383-8FE2E171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6C12-61D8-46F4-B4EC-0F43FBB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0E5-03E8-4BD7-A67C-C857D0B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A0A2-A68B-47D1-8A0F-6A92511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636B-3EDA-4C21-B0DA-B7394C5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AC9A-1DDB-4DAB-AA6A-421F5377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D411-3207-4B30-8677-1293833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1FF34-5DC4-4C66-A4B7-58218F7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F077-A5C3-46BC-8D62-6C5434D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A967-D5A6-4F16-BBEF-57F93BB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7504-0002-4504-9A93-45F73D6C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2EAF-EC4B-4448-871E-A06E0D3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168BC-AAFD-4636-A64C-AEB2192A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D45-6387-4E69-BF96-263C0630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6BDE-9428-4640-A387-12DB9978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651E7-A1EA-47BB-B734-B80B5FFA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4877-D75A-489B-B59A-CE4569A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0BC1E-BBE1-40D8-A83D-0F466A3F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8F110-D665-4C28-830D-66DA7528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567ED-6425-4095-A54B-1DC43FF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9E33-8866-4EE7-94E2-123C1E9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7C62-5494-4C59-B4B2-D694BEB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FF10-1754-4807-B782-9CEDE39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9B3E-A636-43B4-9342-43807A3B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FC9-4EE1-4687-A6AA-3371D96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1A95-09AF-4DCC-AEAE-7D8FB85E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A6C57-7DA6-4AF8-87D1-1D8F65E0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1B09-7924-4A89-A0B1-AC7ABE46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77221-55A7-4CFB-B496-63A58B3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9688D-95FC-420B-986D-C57F020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6A745-1B54-4586-9E86-40198C3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2C708-B5CB-4085-8954-40A1C9C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887A-4D8D-49D7-98E2-1AF9472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42B7-3D61-479B-BC7E-2191747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895C-82DF-4093-AA5C-5C1C290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BBA-ED0A-4427-A19B-D06F386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AC9E-60ED-45B8-B46F-0557A72B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7062-481B-4505-9DB0-E0E4DBA0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C13A-A2EC-4AC4-A578-46599E0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64D8-518A-4B90-BE51-F4C081A5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61C4-F5F3-4120-82FD-921CAE7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CBC8-603A-404F-B385-3F074418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2559-556A-4228-8E80-6EC96AD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44574-A170-4428-9CD4-D8F56A0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34FE-72AE-4E95-BBDC-C1C839C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08DF-74AB-4958-9B4A-549E460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6A0-CFC0-4A4C-8279-8A27047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72719-96A2-45BF-A905-415646CF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E9E9-6144-4D7C-BDCE-103329F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0A5B3-43F9-411A-B783-3F9FFC07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8B04-D9EA-4BBC-8F62-700D3020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3FC5-6376-4A94-B381-E17A7876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2F18-8CFB-4619-8F12-F08B85B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6643-FD25-4BCB-BA61-FFA14BB8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7DB9-58D2-4A02-B11A-265F978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AFC93-B4E8-4C6A-989F-F9679812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4A4F-EE6C-4F58-8113-2E07E24D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271-1C6A-4E4B-A2B8-16B9741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80059-DC57-4C08-9884-6E5096A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F65B5-E7F9-469A-A136-6DE189C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064D9-6ECF-4F67-9D87-9CF7F18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2710-E82C-4950-9A0E-4A210CB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F08C-9625-43DB-8562-DBFA977B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1BA1-A91E-4586-ABD7-13D5657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DF87-D7BA-4A73-B3B5-D8BE2E26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0F07F-2AE5-4302-8E39-DA04F173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83AB7-7FFD-488D-9B9B-AB00F741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116E-5220-4DE2-AE94-91352E08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B33-9FD3-4269-8BB6-9C0C20334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BF5-678F-4C8D-A474-397E1A0B0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E806-E510-479B-98A0-7347C2AC7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AB6-770C-4B7A-A1D9-8F7791B82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B7F8-7A14-4873-AFEA-5B23456B8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2711-78B7-422E-941E-3508E143D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08B7-7D4F-4F9D-9B8D-A2AEE40CC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48C6-4CCF-4FF8-B327-8E61E137C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C9F-CAC5-4600-A7B8-F45CC2B17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496F-F52F-45E2-A1E1-BB4F949D6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9BC-A97D-411C-A0FB-2DB1BEA56B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0EB-87B5-466B-9A70-3FF546164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hyperlink" Target="http://uk.bloggif.com/images/GIF-animes/Emoticone/Emoticone-grimace/Emoticone-grimace-img12483" TargetMode="External"/><Relationship Id="rId4" Type="http://schemas.openxmlformats.org/officeDocument/2006/relationships/image" Target="../media/image7.gif"/><Relationship Id="rId5" Type="http://schemas.openxmlformats.org/officeDocument/2006/relationships/hyperlink" Target="http://uk.bloggif.com/images/GIF-animes/Planete/Terre/Terre-img18358" TargetMode="Externa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hyperlink" Target="http://uk.bloggif.com/images/GIF-animes/Artiste/Chanteur/Chanteur-img8325" TargetMode="External"/><Relationship Id="rId7" Type="http://schemas.openxmlformats.org/officeDocument/2006/relationships/image" Target="../media/image10.gif"/><Relationship Id="rId8" Type="http://schemas.openxmlformats.org/officeDocument/2006/relationships/hyperlink" Target="http://uk.bloggif.com/images/GIF-animes/Dollz/Dollz-banniere/Dollz-banniere-img11244" TargetMode="External"/><Relationship Id="rId9" Type="http://schemas.openxmlformats.org/officeDocument/2006/relationships/image" Target="../media/image11.gif"/><Relationship Id="rId10" Type="http://schemas.openxmlformats.org/officeDocument/2006/relationships/hyperlink" Target="http://uk.bloggif.com/images/GIF-animes/Artiste/Chanteur/Chanteur-img8314" TargetMode="External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hyperlink" Target="http://uk.bloggif.com/images/GIF-animes/Aliment/Legume/Legume-img5774" TargetMode="External"/><Relationship Id="rId4" Type="http://schemas.openxmlformats.org/officeDocument/2006/relationships/image" Target="../media/image16.gif"/><Relationship Id="rId5" Type="http://schemas.openxmlformats.org/officeDocument/2006/relationships/hyperlink" Target="http://uk.bloggif.com/images/GIF-animes/Aliment/Legume/Legume-img5769" TargetMode="External"/><Relationship Id="rId6" Type="http://schemas.openxmlformats.org/officeDocument/2006/relationships/image" Target="../media/image17.gif"/><Relationship Id="rId7" Type="http://schemas.openxmlformats.org/officeDocument/2006/relationships/hyperlink" Target="http://uk.bloggif.com/images/GIF-animes/Aliment/Legume/Legume-img5773" TargetMode="External"/><Relationship Id="rId8" Type="http://schemas.openxmlformats.org/officeDocument/2006/relationships/image" Target="../media/image18.gif"/><Relationship Id="rId9" Type="http://schemas.openxmlformats.org/officeDocument/2006/relationships/hyperlink" Target="http://uk.bloggif.com/images/GIF-animes/Aliment/Legume/Legume-img5781" TargetMode="External"/><Relationship Id="rId10" Type="http://schemas.openxmlformats.org/officeDocument/2006/relationships/image" Target="../media/image19.gif"/><Relationship Id="rId11" Type="http://schemas.openxmlformats.org/officeDocument/2006/relationships/hyperlink" Target="http://uk.bloggif.com/images/GIF-animes/Aliment/Legume/Legume-img5766" TargetMode="External"/><Relationship Id="rId12" Type="http://schemas.openxmlformats.org/officeDocument/2006/relationships/image" Target="../media/image20.gif"/><Relationship Id="rId13" Type="http://schemas.openxmlformats.org/officeDocument/2006/relationships/hyperlink" Target="http://uk.bloggif.com/images/GIF-animes/Aliment/Legume/Legume-img5780" TargetMode="External"/><Relationship Id="rId14" Type="http://schemas.openxmlformats.org/officeDocument/2006/relationships/image" Target="../media/image21.gif"/><Relationship Id="rId15" Type="http://schemas.openxmlformats.org/officeDocument/2006/relationships/hyperlink" Target="http://data.bloggif.com/distant/gallery/original/4/8/7/5/5784_735b7.gif" TargetMode="External"/><Relationship Id="rId16" Type="http://schemas.openxmlformats.org/officeDocument/2006/relationships/image" Target="../media/image22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646b86"/>
                </a:solidFill>
                <a:latin typeface="Georgia"/>
              </a:rPr>
              <a:t>GRUPA II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BODEA ANGELO ALEXANDRU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DAVID LUCAS ALEX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IANCE CARINA OTILIA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MOLNAR ALEX CRISTIA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POLGAR ROBER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b86"/>
                </a:solidFill>
                <a:latin typeface="Georgia"/>
              </a:rPr>
              <a:t>SABOU RADU ŞTEFA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cent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plica</a:t>
            </a: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ţii pract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n televizor costă 480 lei. Preţul lui se reduce cu 5 %.Cât va costa televizorul după reducere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"/>
          <p:cNvPicPr/>
          <p:nvPr/>
        </p:nvPicPr>
        <p:blipFill>
          <a:blip r:embed="rId1"/>
          <a:stretch/>
        </p:blipFill>
        <p:spPr>
          <a:xfrm>
            <a:off x="2000160" y="4429080"/>
            <a:ext cx="1714680" cy="12333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"/>
          <p:cNvPicPr/>
          <p:nvPr/>
        </p:nvPicPr>
        <p:blipFill>
          <a:blip r:embed="rId2"/>
          <a:stretch/>
        </p:blipFill>
        <p:spPr>
          <a:xfrm>
            <a:off x="5572080" y="2000160"/>
            <a:ext cx="2428920" cy="3500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bicicletă costă 220 lei. Preţul se măreşte cu 15%. Cât va costa bicicleta după scumpire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1214280" cy="2214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4857840" y="2214720"/>
            <a:ext cx="3929040" cy="32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48104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Un atlas costă 50lei. Cât ar costa atlasul dacă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) S-ar ieftini cu 20 %;                             b) s-ar scumpi cu 15%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D:\Documents and Settings\Radu\Local Settings\Temporary Internet Files\Content.IE5\AC2XBSU6\MC900055226[1].wmf"/>
          <p:cNvPicPr/>
          <p:nvPr/>
        </p:nvPicPr>
        <p:blipFill>
          <a:blip r:embed="rId1"/>
          <a:stretch/>
        </p:blipFill>
        <p:spPr>
          <a:xfrm>
            <a:off x="4800600" y="2151000"/>
            <a:ext cx="4038480" cy="3122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"/>
          <p:cNvPicPr/>
          <p:nvPr/>
        </p:nvPicPr>
        <p:blipFill>
          <a:blip r:embed="rId2"/>
          <a:stretch/>
        </p:blipFill>
        <p:spPr>
          <a:xfrm>
            <a:off x="1214280" y="3929040"/>
            <a:ext cx="2143440" cy="1500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Emoticone grimace (110x90p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357120"/>
            <a:ext cx="1047960" cy="857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Terre (90x90px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29120" y="535788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a un spectacol s-au vândut 3300 de bilete de trei categorii: 20% cu preţul de 12 lei biletul, 43% cu preţul de 10 lei biletul iar restul cu preţul de 7 lei biletul. Calculaţi suma totală încasată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5" descr="C:\Users\User\Desktop\sexyopr000lxanrw6[1].gif"/>
          <p:cNvPicPr/>
          <p:nvPr/>
        </p:nvPicPr>
        <p:blipFill>
          <a:blip r:embed="rId1"/>
          <a:stretch/>
        </p:blipFill>
        <p:spPr>
          <a:xfrm>
            <a:off x="5000760" y="157176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C:\Users\User\Desktop\sexyopr000lxanrw6[1].gif"/>
          <p:cNvPicPr/>
          <p:nvPr/>
        </p:nvPicPr>
        <p:blipFill>
          <a:blip r:embed="rId2"/>
          <a:stretch/>
        </p:blipFill>
        <p:spPr>
          <a:xfrm>
            <a:off x="6143760" y="15001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C:\Users\User\Desktop\sexyopr000lxanrw6[1].gif"/>
          <p:cNvPicPr/>
          <p:nvPr/>
        </p:nvPicPr>
        <p:blipFill>
          <a:blip r:embed="rId3"/>
          <a:stretch/>
        </p:blipFill>
        <p:spPr>
          <a:xfrm>
            <a:off x="6786720" y="214308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User\Desktop\sexyopr000lxanrw6[1].gif"/>
          <p:cNvPicPr/>
          <p:nvPr/>
        </p:nvPicPr>
        <p:blipFill>
          <a:blip r:embed="rId4"/>
          <a:stretch/>
        </p:blipFill>
        <p:spPr>
          <a:xfrm>
            <a:off x="5643720" y="22147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C:\Users\User\Desktop\sexyopr000lxanrw6[1].gif"/>
          <p:cNvPicPr/>
          <p:nvPr/>
        </p:nvPicPr>
        <p:blipFill>
          <a:blip r:embed="rId5"/>
          <a:stretch/>
        </p:blipFill>
        <p:spPr>
          <a:xfrm>
            <a:off x="7286760" y="150012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Chanteur (59x120px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57960" y="2857680"/>
            <a:ext cx="500040" cy="10173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3" descr="Dollz banniere (400x150px)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86280" y="4500720"/>
            <a:ext cx="2303640" cy="857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5" descr="Chanteur (116x170px)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857840" y="3143160"/>
            <a:ext cx="876240" cy="128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Georgia"/>
              </a:rPr>
              <a:t>Un agent imobiliar vinde un apartament la preţul de 34000 lei. Pentru tranzacţia făcută, el percepe un comision de 1% de la cumpărător şi 2% de la vânzător. Ce comision va primi agentul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24"/>
              </a:spcBef>
              <a:buClr>
                <a:srgbClr val="d1634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3" descr="D:\Documents and Settings\Radu\Local Settings\Temporary Internet Files\Content.IE5\2SR258PM\MC900434807[1].png"/>
          <p:cNvPicPr/>
          <p:nvPr/>
        </p:nvPicPr>
        <p:blipFill>
          <a:blip r:embed="rId1"/>
          <a:stretch/>
        </p:blipFill>
        <p:spPr>
          <a:xfrm>
            <a:off x="4643280" y="1785960"/>
            <a:ext cx="3929400" cy="3929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in sortarea legumelor se pierde 7% din cantitate. C</a:t>
            </a:r>
            <a:r>
              <a:rPr b="0" lang="ro-RO" sz="2500" spc="-1" strike="noStrike">
                <a:solidFill>
                  <a:srgbClr val="000000"/>
                </a:solidFill>
                <a:latin typeface="Georgia"/>
              </a:rPr>
              <a:t>âte kilograme de legume rămân după sortarea a 13 700 kg de legum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tretch/>
        </p:blipFill>
        <p:spPr>
          <a:xfrm>
            <a:off x="1214280" y="4429080"/>
            <a:ext cx="2214720" cy="1452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Carrot_jumps"/>
          <p:cNvPicPr/>
          <p:nvPr/>
        </p:nvPicPr>
        <p:blipFill>
          <a:blip r:embed="rId2"/>
          <a:stretch/>
        </p:blipFill>
        <p:spPr>
          <a:xfrm>
            <a:off x="7929720" y="3143160"/>
            <a:ext cx="771480" cy="2057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Legume (84x113p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15040" y="4786200"/>
            <a:ext cx="800280" cy="1076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0" descr="Legume (61x80px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72240" y="285840"/>
            <a:ext cx="581040" cy="761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" descr="Legume (98x110px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29120" y="1714680"/>
            <a:ext cx="933480" cy="1285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Legume (68x85px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371484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6" descr="Legume (76x144px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57960" y="2286000"/>
            <a:ext cx="961920" cy="18288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8" descr="Legume (120x120px)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040" y="21420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0" descr="Legum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643800" y="1643040"/>
            <a:ext cx="1971720" cy="785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Legume (84x113px)"/>
          <p:cNvPicPr/>
          <p:nvPr/>
        </p:nvPicPr>
        <p:blipFill>
          <a:blip r:embed="rId17"/>
          <a:stretch/>
        </p:blipFill>
        <p:spPr>
          <a:xfrm>
            <a:off x="6367320" y="4938840"/>
            <a:ext cx="800280" cy="1076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Legume (84x113px)"/>
          <p:cNvPicPr/>
          <p:nvPr/>
        </p:nvPicPr>
        <p:blipFill>
          <a:blip r:embed="rId18"/>
          <a:stretch/>
        </p:blipFill>
        <p:spPr>
          <a:xfrm>
            <a:off x="6519960" y="5091120"/>
            <a:ext cx="799920" cy="1076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4" descr="Legume (68x85px)"/>
          <p:cNvPicPr/>
          <p:nvPr/>
        </p:nvPicPr>
        <p:blipFill>
          <a:blip r:embed="rId19"/>
          <a:stretch/>
        </p:blipFill>
        <p:spPr>
          <a:xfrm>
            <a:off x="5295960" y="3867120"/>
            <a:ext cx="647640" cy="8096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4" descr="Legume (68x85px)"/>
          <p:cNvPicPr/>
          <p:nvPr/>
        </p:nvPicPr>
        <p:blipFill>
          <a:blip r:embed="rId20"/>
          <a:stretch/>
        </p:blipFill>
        <p:spPr>
          <a:xfrm>
            <a:off x="5448240" y="4019400"/>
            <a:ext cx="647640" cy="80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5T15:37:11Z</dcterms:modified>
  <cp:revision>13</cp:revision>
  <dc:subject/>
  <dc:title>Slide 1</dc:title>
</cp:coreProperties>
</file>